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EA5D-D698-4C45-A555-C2759296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2CF-B2C4-4528-ABE0-2E511353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CA3-5B50-4D6E-98C6-7A35A8B3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3BB-3D03-4DA2-BCEA-C0326C23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0F33-975D-48C2-A5A9-9934C6AE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0058-C321-4D6F-9EC8-61E39FD3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374A-D88A-4118-8AA1-A5C40831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16E4-9B5F-4593-9B95-DDC3167E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D731-E537-4C68-A745-3CBFC04D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7689-ABD5-47DD-863B-ABC94F50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70C8-604B-4BBE-989C-B79567D7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6836-F54D-4BEB-8A65-411E72D9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A1B6-DB11-4550-B40D-6A91CEE6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A480-C9FA-4805-A9E8-0DFEC0E3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DA9C-FB7A-44A1-8F9A-AF789C42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FEE6-7324-477E-A54C-2DC49143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5029-02DF-438E-96BB-72DC0EE6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D2C-C155-49EF-831B-FCBC1BC9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04D-DE00-4896-A701-B581F5D6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5A41-7DDA-4EE1-99E2-F596F835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5EC-9489-44B4-8AC6-CAB14422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DAC-EEB1-4C7B-85B7-893B521E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ECD-9979-4E29-BB92-FF8E2A8B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34B8-6B38-428C-B7D5-C366CFD5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1148-00C4-4D48-B20A-AC73D3393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E83E-C30E-4E62-AFB7-2B2EE57B2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19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Raquero. </a:t>
            </a:r>
            <a:r>
              <a:rPr b="1" i="1" lang="en-US" sz="5400" spc="-1" strike="noStrike">
                <a:solidFill>
                  <a:srgbClr val="ccecff"/>
                </a:solidFill>
                <a:latin typeface="Arial"/>
              </a:rPr>
              <a:t>EL BARCO-ESCUELA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657600" y="556272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isco Andrés Sier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vier Yagüe Domíngu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L FUNCIONAMIENTO DEL BAR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barco, igual que todos los demás medios de transporte, necesita propulsión, dirección y energía para poder avanza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un velero la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ergí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e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en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opulsió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crea gracias al cazado de la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scota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recció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controlamos con e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imó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52280" y="4267080"/>
            <a:ext cx="1600200" cy="7905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828800" y="3733920"/>
            <a:ext cx="3809880" cy="27702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5867280" y="4495680"/>
            <a:ext cx="304812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L VIENTO Y LAS VEL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 navegar a vela, es imprescindible conocer la dirección del viento. Hay muchas cosas a nuestro alrededor que nos indican la dirección del viento: </a:t>
            </a:r>
            <a:r>
              <a:rPr b="0" i="1" lang="en-US" sz="2800" spc="-1" strike="noStrike" u="sng">
                <a:solidFill>
                  <a:srgbClr val="ff9933"/>
                </a:solidFill>
                <a:uFillTx/>
                <a:latin typeface="Arial"/>
              </a:rPr>
              <a:t>una bandera, la dirección del hum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 velas son el motor del barco y, en el Raquero, podemos llevar </a:t>
            </a:r>
            <a:r>
              <a:rPr b="0" lang="en-US" sz="2800" spc="-1" strike="noStrike" u="sng">
                <a:solidFill>
                  <a:srgbClr val="ff9933"/>
                </a:solidFill>
                <a:uFillTx/>
                <a:latin typeface="Arial"/>
              </a:rPr>
              <a:t>diferentes tipos de vel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gún la fuerza del viento y el rumbo o dirección del barco: la Vela Mayor y el foque. Es lo que nosotros vamos a estudi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495360" y="1219320"/>
            <a:ext cx="8153280" cy="53625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L VIENTO Y LAS VEL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9400" y="5104800"/>
            <a:ext cx="95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(Beaufort</a:t>
            </a: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67160" y="5211000"/>
            <a:ext cx="95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(Beaufort</a:t>
            </a: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45400" y="3885480"/>
            <a:ext cx="95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(Beaufort</a:t>
            </a: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50320" y="5257080"/>
            <a:ext cx="95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(Beaufort</a:t>
            </a: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380988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82880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001000" y="16765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7724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Arial"/>
              </a:rPr>
              <a:t>Sp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7695720" y="3276720"/>
            <a:ext cx="30492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7695720" y="243792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924680" y="2819520"/>
            <a:ext cx="7621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3300"/>
                </a:solidFill>
                <a:latin typeface="Arial"/>
              </a:rPr>
              <a:t>Foqu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3300"/>
                </a:solidFill>
                <a:latin typeface="Arial"/>
              </a:rPr>
              <a:t>Vela menor 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3300"/>
                </a:solidFill>
                <a:latin typeface="Arial"/>
              </a:rPr>
              <a:t>Génov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29400" y="205740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181296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3300"/>
                </a:solidFill>
                <a:latin typeface="Arial"/>
              </a:rPr>
              <a:t>Ve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3300"/>
                </a:solidFill>
                <a:latin typeface="Arial"/>
              </a:rPr>
              <a:t>may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OS RUMBO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rumbo de un barco puede ser medido respecto al norte o respecto al viento. Éste último es el ángulo en el que navega un barco respecto al viento. En cada rumbo se utiliza una técnica distinta de naveg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457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ALGUNOS CONCEPTOS BÁSICO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2" name="" descr="sobrevent-sotavent"/>
          <p:cNvPicPr/>
          <p:nvPr/>
        </p:nvPicPr>
        <p:blipFill>
          <a:blip r:embed="rId1"/>
          <a:stretch/>
        </p:blipFill>
        <p:spPr>
          <a:xfrm>
            <a:off x="3097080" y="-1086993000"/>
            <a:ext cx="1476360" cy="15238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sobrevent-sotavent"/>
          <p:cNvPicPr/>
          <p:nvPr/>
        </p:nvPicPr>
        <p:blipFill>
          <a:blip r:embed="rId2"/>
          <a:stretch/>
        </p:blipFill>
        <p:spPr>
          <a:xfrm>
            <a:off x="3097080" y="-1086993000"/>
            <a:ext cx="1047960" cy="19908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sobrevent-sotavent"/>
          <p:cNvPicPr/>
          <p:nvPr/>
        </p:nvPicPr>
        <p:blipFill>
          <a:blip r:embed="rId3"/>
          <a:stretch/>
        </p:blipFill>
        <p:spPr>
          <a:xfrm>
            <a:off x="3370320" y="1043938440"/>
            <a:ext cx="2676600" cy="981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28600" y="1721160"/>
            <a:ext cx="522936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n las palabras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barlovento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y 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sotavento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definimos la zona de donde viene o a donde va el vient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l costado de sotavento de un barco es aquella donde está la vela may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Un barco que se encuentra a sotavento de otro es el de sotavento. Así,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se encuentra a barlovento de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 sotavento de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457200" y="4952880"/>
            <a:ext cx="2666880" cy="10670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7162920" y="3429000"/>
            <a:ext cx="1638360" cy="31147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6"/>
          <a:stretch/>
        </p:blipFill>
        <p:spPr>
          <a:xfrm>
            <a:off x="3962520" y="3429000"/>
            <a:ext cx="30384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ALGUNOS CONCEPTOS BÁSICO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0" name="" descr="sobrevent-sotavent"/>
          <p:cNvPicPr/>
          <p:nvPr/>
        </p:nvPicPr>
        <p:blipFill>
          <a:blip r:embed="rId1"/>
          <a:stretch/>
        </p:blipFill>
        <p:spPr>
          <a:xfrm>
            <a:off x="3097080" y="-1086993000"/>
            <a:ext cx="1476360" cy="15238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sobrevent-sotavent"/>
          <p:cNvPicPr/>
          <p:nvPr/>
        </p:nvPicPr>
        <p:blipFill>
          <a:blip r:embed="rId2"/>
          <a:stretch/>
        </p:blipFill>
        <p:spPr>
          <a:xfrm>
            <a:off x="3097080" y="-1086993000"/>
            <a:ext cx="1047960" cy="19908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sobrevent-sotavent"/>
          <p:cNvPicPr/>
          <p:nvPr/>
        </p:nvPicPr>
        <p:blipFill>
          <a:blip r:embed="rId3"/>
          <a:stretch/>
        </p:blipFill>
        <p:spPr>
          <a:xfrm>
            <a:off x="3370320" y="1043938440"/>
            <a:ext cx="2676600" cy="981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0" y="-1055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914400" y="2438280"/>
          <a:ext cx="4267080" cy="163044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163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demos navegar hacia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arloven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en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umbos cerrado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como la ceñida y el descuartelar, pero sin pasar de un rumbo con un ángulo de 45º a cada lado del viento.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star dentro de éste ángulo con las velas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lameand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y la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oa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cerca de la dirección del viento es estar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oa al vien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138240" y="1828800"/>
            <a:ext cx="4433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66"/>
                </a:solidFill>
                <a:latin typeface="Arial"/>
              </a:rPr>
              <a:t>Navegar hacia barlovento</a:t>
            </a:r>
            <a:r>
              <a:rPr b="0" lang="en-US" sz="28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943600" y="990720"/>
            <a:ext cx="2852640" cy="2819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76560" y="4267080"/>
            <a:ext cx="4191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66"/>
                </a:solidFill>
                <a:latin typeface="Arial"/>
              </a:rPr>
              <a:t>Navegar hacia sotav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5029200"/>
            <a:ext cx="40384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odemos navegar hacia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sotavento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en todos los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rumbos abiertos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l viento siempre nos llevará fácilmente hacia sotavento. Por eso siempre es mejor empezar navegando hacia barloven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5"/>
          <a:stretch/>
        </p:blipFill>
        <p:spPr>
          <a:xfrm>
            <a:off x="5943600" y="3886200"/>
            <a:ext cx="2895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5943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cecff"/>
                </a:solidFill>
                <a:latin typeface="Arial"/>
              </a:rPr>
              <a:t>Cazar y Amollar.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zar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Acción de cerrar la ve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5791320" y="152280"/>
            <a:ext cx="3276360" cy="25466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23840" y="1600200"/>
            <a:ext cx="3686040" cy="23623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28600" y="4343400"/>
            <a:ext cx="89154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mpre que el barco esté fuera del ángulo de 45º de proa al viento, 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z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a escota, l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la se hinch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ranc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 bar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 mas queramos  acercarnos al rumbo de empopada, mas tendremos que amollar la ve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266688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mollar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Abrir la vela, soltar de una esco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indefinite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indefinite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indefinite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indefinite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scorar y derivar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251460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 el viento aumenta su fuerza, el barco puede escorar demasiado, navegar peor y puede llegar a volc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8380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co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 la inclinación lateral del bar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733920" y="3321000"/>
            <a:ext cx="5257800" cy="33847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28600" y="403848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em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tar escota de may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ra controlar l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or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entras dure la rach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1460520"/>
            <a:ext cx="8915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uando cazamos escota, además de hacernos navegar, el barco se esco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3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riv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 el movimiento lateral del barco hacia sotavent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evitar la deriva calamos l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z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Al variar el rumbo debemos variar el calado de la orza.(para mas avanzad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calado de la orza se varia desde la caja.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3657600"/>
            <a:ext cx="3276720" cy="23097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952880" y="3581280"/>
            <a:ext cx="3048120" cy="2748240"/>
          </a:xfrm>
          <a:prstGeom prst="rect">
            <a:avLst/>
          </a:prstGeom>
          <a:ln w="0">
            <a:noFill/>
          </a:ln>
        </p:spPr>
      </p:pic>
      <p:cxnSp>
        <p:nvCxnSpPr>
          <p:cNvPr id="334" name=""/>
          <p:cNvCxnSpPr>
            <a:stCxn id="331" idx="3"/>
            <a:endCxn id="331" idx="3"/>
          </p:cNvCxnSpPr>
          <p:nvPr/>
        </p:nvCxnSpPr>
        <p:spPr>
          <a:xfrm>
            <a:off x="9143640" y="3177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 flipH="1">
            <a:off x="7086600" y="3352680"/>
            <a:ext cx="1447920" cy="1295640"/>
          </a:xfrm>
          <a:prstGeom prst="line">
            <a:avLst/>
          </a:prstGeom>
          <a:ln w="38160">
            <a:solidFill>
              <a:srgbClr val="00ff00"/>
            </a:solidFill>
            <a:miter/>
            <a:headEnd len="sm" type="triangle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1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3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MANIOBRAS BÁSICAS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8380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zar y Arrib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41911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5238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z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gnifica acercar l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 v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3714840"/>
            <a:ext cx="5867280" cy="31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rib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gnifica alejar l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l v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 viento fuerte cuesta un poco arribar. Ayudaremos a que el barco arribe si amollamos escota de mayor y dejamos que flamee un po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5943600" y="1295280"/>
            <a:ext cx="2109960" cy="2286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5978520" y="990720"/>
            <a:ext cx="3089160" cy="57909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04920" y="236232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yudaremos a que el barco orce si vamos cazando la escota progresiv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3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4124160" cy="59436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US PAR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ás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z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las; mayor y foq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ava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04920" y="4267080"/>
            <a:ext cx="4893480" cy="2227680"/>
            <a:chOff x="304920" y="4267080"/>
            <a:chExt cx="4893480" cy="2227680"/>
          </a:xfrm>
        </p:grpSpPr>
        <p:grpSp>
          <p:nvGrpSpPr>
            <p:cNvPr id="217" name=""/>
            <p:cNvGrpSpPr/>
            <p:nvPr/>
          </p:nvGrpSpPr>
          <p:grpSpPr>
            <a:xfrm>
              <a:off x="304920" y="4313160"/>
              <a:ext cx="4322520" cy="2181600"/>
              <a:chOff x="304920" y="4313160"/>
              <a:chExt cx="4322520" cy="2181600"/>
            </a:xfrm>
          </p:grpSpPr>
          <p:pic>
            <p:nvPicPr>
              <p:cNvPr id="21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4313160"/>
                <a:ext cx="4322520" cy="214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2036520" y="6218280"/>
                <a:ext cx="114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3300"/>
                    </a:solidFill>
                    <a:latin typeface="Arial"/>
                  </a:rPr>
                  <a:t>Estrib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360360" y="4267080"/>
              <a:ext cx="4838040" cy="1313280"/>
              <a:chOff x="360360" y="4267080"/>
              <a:chExt cx="4838040" cy="1313280"/>
            </a:xfrm>
          </p:grpSpPr>
          <p:sp>
            <p:nvSpPr>
              <p:cNvPr id="221" name=""/>
              <p:cNvSpPr/>
              <p:nvPr/>
            </p:nvSpPr>
            <p:spPr>
              <a:xfrm>
                <a:off x="2112480" y="4267080"/>
                <a:ext cx="114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3300"/>
                    </a:solidFill>
                    <a:latin typeface="Arial"/>
                  </a:rPr>
                  <a:t>Bab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055760" y="5303880"/>
                <a:ext cx="114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3300"/>
                    </a:solidFill>
                    <a:latin typeface="Arial"/>
                  </a:rPr>
                  <a:t>Pro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0360" y="5303880"/>
                <a:ext cx="114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3300"/>
                    </a:solidFill>
                    <a:latin typeface="Arial"/>
                  </a:rPr>
                  <a:t>Pop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5867280" y="1981080"/>
            <a:ext cx="38124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91520" y="1219320"/>
            <a:ext cx="3808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1828800"/>
            <a:ext cx="3808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5257800"/>
            <a:ext cx="3808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5943600"/>
            <a:ext cx="3808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81680" y="5562720"/>
            <a:ext cx="38124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-360" y="2743200"/>
            <a:ext cx="5715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emos dividir la maniobra en 3 par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Orzar, desde el rumbo que llevamos hasta proa al v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Cruzar la línea del viento. Las velas cambian de lado y la tripulación tambié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Arribar desde proa al viento hasta el nuevo rumb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29000" y="127080"/>
            <a:ext cx="1905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572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ad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 avant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ar por avante significa cambiar de amura pasando por proa al vien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mejor momento para iniciar una virada por avante es cuando e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rco va a la máxima velocid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883120" y="2590920"/>
            <a:ext cx="3260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1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indefinite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3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3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ada en redondo o Trasluch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 cambiar de amura navegand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favor del vien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 realizarla hace falta que toda la tripulación esté muy atenta y bien sent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705720" y="990720"/>
            <a:ext cx="2336760" cy="57909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52280" y="1447920"/>
            <a:ext cx="66294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odemos dividir la maniobra en 4 part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Navegando en rumbo de popa, cuando los tripulantes estan preparados, 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el patrón avisa y tira el timón ligeramente hacia barlovent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 El patrón coge la escota y   ayuda a pasar la botavara a sotavento. Un tripulante puede ayudar haciendo lo mismo desde la contr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uando la vela pasa al otro lado el patrón suelta toda la esco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 El patrón estabiliza el barco con el timón y los tripulantes con el pes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3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indefinite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5" dur="5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indefinite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8600" y="457200"/>
            <a:ext cx="525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s de guía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as segur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 todos. Para atar cualquier parte, no se abre aun faltándole tens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86200" y="2743200"/>
            <a:ext cx="5257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Ballestringer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. Nudo de atraque. Al tensar el cabo el nudo se hace firme y no resba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47242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cer firme sobre una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rnamus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para asegurar las driz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562720" y="838080"/>
            <a:ext cx="3200400" cy="13446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28600" y="3124080"/>
            <a:ext cx="3676680" cy="12304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5486400" y="5029200"/>
            <a:ext cx="33336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indefinite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indefinite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indefinite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indefinite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osario de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érmino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Aleta: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Parte lateral del casco más cerca de la popa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Amollar: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Abrir la vela, soltar de una escota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Amura: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Parte lateral del casco más cerca de la proa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Arriar: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Bajar las vela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Baliza: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Boya para delimitar o señaliza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Caña del timón: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Barra fijada al timón que sirve para maniobrar a este último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Cazar: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Acción de cerrar la vela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Cornamusa: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Pieza para fijar un cabo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Deriva: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Desviación de la embarcación cuando avanza lateralment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Driza: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En Vela Ligera es cualquier cabo que recorre el mástil utilizado para izar una vela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19920" y="3581280"/>
            <a:ext cx="144756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3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6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indefinite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indefinite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indefinite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indefinite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2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2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20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2000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indefinite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indefinite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indefinite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indefinite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indefinite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2860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Eslora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ongitud del casco desde proa a pop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Escota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abo utilizado para cazar o amollar una vel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Grillete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Izar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Subir una ve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Manga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ncho del casco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Orza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ieza que una vez colocada en su lugar, al ir sumergida, impide la deriv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ujamen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xtremo inferior de la vela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uño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Vértice extremo de la vel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Sable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Varilla o listón que se introduce en la baluma de la vela para aguantar su form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Virada por avante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Virar pasando la proa por donde viene el vient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Virada en redondo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Virar pasando la popa por donde viene el vient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16858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indefinite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indefinite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indefinite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indefinite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1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2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2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indefinite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indefinite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indefinite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indefinite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indefinite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000" fill="hold"/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000" fill="hold"/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US PAR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3218040" cy="4572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7238880" y="3657600"/>
            <a:ext cx="1298520" cy="2610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rot="1108800">
            <a:off x="2193840" y="1761840"/>
            <a:ext cx="1067040" cy="297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831960"/>
            <a:ext cx="312408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9933"/>
                </a:solidFill>
                <a:latin typeface="Arial"/>
              </a:rPr>
              <a:t>Ayuda a la tensión de la vel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9933"/>
                </a:solidFill>
                <a:latin typeface="Arial"/>
              </a:rPr>
              <a:t>Aumentado considerablemente la superficie vélica con las mismas medidas de mástil y botavara. Dotando a los barcos de más velocidad con vientos-ligeros y aumentando las prestaciones en todo tipo de condiciones.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US PAR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ást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3218040" cy="4572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238880" y="2438280"/>
            <a:ext cx="419400" cy="36291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971800" y="1828800"/>
            <a:ext cx="609480" cy="3733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1143000"/>
            <a:ext cx="3886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Palo vertical (normalmente de fibra) que soporta el velam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US PAR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z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3218040" cy="4572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1085760" cy="2133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124080" y="2895480"/>
            <a:ext cx="457200" cy="762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1828800"/>
            <a:ext cx="38088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69040" y="1448640"/>
            <a:ext cx="377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Cabo que sujeta el aparejo (normalmente al cabezal de la botavara) para izar la vela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US PAR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as; mayor y foq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3218040" cy="4572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1173240" cy="2828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7924680" y="3429000"/>
            <a:ext cx="750960" cy="1762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rot="558600">
            <a:off x="2168280" y="1830240"/>
            <a:ext cx="1447560" cy="3710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21342000">
            <a:off x="2895480" y="3114720"/>
            <a:ext cx="1447920" cy="2490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137160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9933"/>
                </a:solidFill>
                <a:uFillTx/>
                <a:latin typeface="Arial"/>
              </a:rPr>
              <a:t>Vela May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Tensar el gratil para su correcto funcionamiento sin que queden arrug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Si se forman arrugas en el sable, hay que tensar mas el pujam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467480" y="1371600"/>
            <a:ext cx="1676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ff9933"/>
                </a:solidFill>
                <a:uFillTx/>
                <a:latin typeface="Arial"/>
              </a:rPr>
              <a:t>Vela meno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ff9933"/>
                </a:solidFill>
                <a:uFillTx/>
                <a:latin typeface="Arial"/>
              </a:rPr>
              <a:t>o foqu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9933"/>
                </a:solidFill>
                <a:latin typeface="Arial"/>
              </a:rPr>
              <a:t>El foque es una vela triangular que se coloca a proa del pa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US PAR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ava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3218040" cy="4572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629400" y="3733920"/>
            <a:ext cx="1943280" cy="4572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rot="5400000">
            <a:off x="2327760" y="4377600"/>
            <a:ext cx="741240" cy="158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34120" y="1753920"/>
            <a:ext cx="342576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Elemento del aparejo que se asegura al mástil por un extremo y a la vela por el otro (por el puño de escota) para darle forma y poder cazarl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US PAR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3218040" cy="4572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086600" y="4495680"/>
            <a:ext cx="1219320" cy="9432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rot="5400000">
            <a:off x="1257120" y="5295960"/>
            <a:ext cx="1067040" cy="83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81480" y="1136520"/>
            <a:ext cx="3657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9933"/>
                </a:solidFill>
                <a:latin typeface="Arial"/>
              </a:rPr>
              <a:t>El timón es el volante de un barco. Todos funcionan de la misma manera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9933"/>
                </a:solidFill>
                <a:latin typeface="Arial"/>
              </a:rPr>
              <a:t>Importante que durante la navegación las palas de los timones estén completamente calad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9933"/>
                </a:solidFill>
                <a:latin typeface="Arial"/>
              </a:rPr>
              <a:t>Evitar tirones y tratarlo con mucho cuidad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US PAR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3218040" cy="4572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3152880" cy="6094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rot="5400000">
            <a:off x="2705040" y="4305240"/>
            <a:ext cx="533520" cy="2743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1447920"/>
            <a:ext cx="2362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9933"/>
                </a:solidFill>
                <a:latin typeface="Arial"/>
              </a:rPr>
              <a:t>Monocas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9933"/>
                </a:solidFill>
                <a:latin typeface="Arial"/>
              </a:rPr>
              <a:t>Gran p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33"/>
                </a:solidFill>
                <a:latin typeface="Arial"/>
              </a:rPr>
              <a:t>1-8 person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co Luque</cp:lastModifiedBy>
  <dcterms:modified xsi:type="dcterms:W3CDTF">2009-10-14T08:00:07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